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5.wmf" ContentType="image/x-wmf"/>
  <Override PartName="/ppt/media/image36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wmf" ContentType="image/x-wmf"/>
  <Override PartName="/ppt/media/image25.png" ContentType="image/png"/>
  <Override PartName="/ppt/media/image34.wmf" ContentType="image/x-wmf"/>
  <Override PartName="/ppt/media/image46.wmf" ContentType="image/x-wmf"/>
  <Override PartName="/ppt/media/image49.wmf" ContentType="image/x-wmf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47.png" ContentType="image/png"/>
  <Override PartName="/ppt/media/image10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A65-C112-41BC-ADDF-03B16B47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80E-7A20-436D-8786-ECE062AF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A4524-88BC-4598-AB30-46AA00D9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1D1F9-0CC8-4C40-AE5E-3C80A71F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070C8-609D-4928-9CD7-60312F62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639AE-CE61-421A-91A2-3C072B3A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093B4-B45F-49EE-A6D8-CA2A6DD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8424E-B631-4F87-9198-F1808BC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3319F-3D45-44BD-8BF8-AA54A05D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D66DC-044D-4D86-9047-E433E02A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7F6A9-76FD-4D77-8664-A41B7986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186C7-C0DA-4113-9230-E9688032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092-F485-4E8C-AB75-70337B10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6D17D-5423-4814-82E6-AB5D09D1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4ED65-A22D-4D49-969F-8EC46D1E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60079-9C73-4BE9-B0DF-94A63B83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AF6D1-CE2C-4588-8314-4145B211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AC050-BCFE-49A5-9F9D-0CE502A4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FF5F0-BE8E-4C80-95F0-221F3197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D0A04-1881-4459-874F-048C3D57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71FDE-5E52-42E5-9E43-0F0C28C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6322C-50B6-4307-AE9F-8920677C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DA934-01AE-4CB6-AB13-6AF9234C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7A2-BB44-4108-B743-69184DF1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A6B03-2BBD-40BF-98BB-37C48742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069DF-82F3-4F5C-8A8C-CB39860E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C7D61-5A07-4CFA-8E6C-F9F38A35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7B177-0C17-4E7C-99DC-EE3E91C3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F51C3-978B-4D15-B56B-AF81259D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7753D-52BF-498A-86D2-F16B9D12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E7C3C-6C1C-46BC-A841-74E35639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708FF-D5AB-4297-A0E4-B1FEA51E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2DF65-37B9-48B9-BAE6-F8F498AE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4F7E2-B149-4244-B75E-134D88B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5D7C-F33E-46A3-A728-C22FBD39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3A12E-DBF2-474B-A8EC-1719B1F0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A6B1E-90A6-4450-B26F-0E949ECD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202D9-792B-42EF-9224-845EDC0A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5680-ECE4-4F5C-8AD3-CA5D804A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D08C-09E8-46C7-BCC9-0D4E5789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A651-F0C9-4B9D-B2F2-3D63B4D3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7C87-3D72-4551-B2E3-8E7D5C9E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7E8B-EBB6-4C87-9085-63151542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A1A2-EEFE-4DDB-A61E-D56CD287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E99-A67E-4C1E-B66A-8D7F7F7E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DA60-CB82-4F6F-8980-F5FB6ECF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12B9-C915-4B77-B782-9C00C581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57DC-E114-4B39-987B-EA107511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7F8C-317B-4863-BF20-5FCD5199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9821-9F01-4D31-8CA3-5AFB3A01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4EC7-2069-487F-8F9D-B6E07AD1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CF41F-B8D4-4F37-B663-E0CBB5BB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FEDA-DBB8-4CD7-ACB3-5A618080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1602-2159-4723-A74C-FBB12D47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8D69-D906-4293-ACF3-D965E05E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C22-89E2-40FA-B3E5-082667E3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66214-D36A-4BC8-A167-DF2B5D7E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6410-D618-4474-B229-6B1D6362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33CD-CDFA-4158-AA80-C0EF7598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04609-E8CD-428C-ABCF-A1BD202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AFBAD-ED41-49AD-B0C3-02CAB6A0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F6870-FAB3-417B-9A7C-9EE5C0C4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9CAFD-D8F5-4B54-B4E6-F9E61A64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AD34-633F-48A3-878C-5E729746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1CEC9-18B6-41D8-B7EB-F667E94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0BA8-2FCD-4214-94BE-C8057C8E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8E8-1E67-441E-8EF1-D10C6C0E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9DB2-63B3-4108-85DE-C8001174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A1366-BE57-46D4-AAE4-DFA438E0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488FA-BBDF-4A08-8FFF-8FB712CC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A3F53-3C7D-4FC7-A230-ACE698D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F6F86-4575-4B5F-AAC8-EC29CE29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98276-BD74-4546-AB44-51FC4EDA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EE2DE-0824-461C-A2B5-77C3D703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F9C4F-73B8-4F75-A6E9-B5FE500C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3C879-AC0E-4EBA-B195-30AEADB6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8499D-9142-41D5-A5F4-2F97DCC3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E6E-389A-424C-99DF-BA5468F7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0A615-219B-4A15-9E13-F1249437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24ACD-AF34-41B9-BA29-19718C23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4CEAF-CB18-472A-9E97-A9FF1884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21ED5-F95D-4E31-9AB2-6CDEE622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9981-C127-4691-8ACA-21FDF22D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60250-449E-4B9C-9805-362F3B32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AB29F-1B9D-4854-87F2-35D0910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8B1C3-2989-4DDE-B0E0-621F2EA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2AC07-F7B3-4D51-BE30-07455731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27244-57B8-47C9-951C-95DA63FE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E2E-10A6-4BB5-938B-1E24E7EF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EBE39-43B4-4185-B767-B186ACD4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0FAC7-73E8-42AB-9C0E-D1428379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EDC43-BF2C-4DEF-A440-60B92A8A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0E35B-725D-4BF3-BF04-10B59CC6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79310-8AB7-4098-A0AF-34470AF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ACD36-0FA4-4AF1-AB96-2D36CBF1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6EC4F-36C0-40A0-8F30-257D8169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A0D2-5993-4C2F-A6B0-989DC075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0F3C4-31DB-48AE-97C0-C620B860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3EAD3-DF25-4AE1-96D8-11FFDA89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33A-A6BD-404F-AFD8-A7E51B4F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AE265-9D65-42DB-9A8D-1D13555F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71F6D-B97E-4C57-B019-681DE021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73CE1-6BAB-48E4-B7BE-F5707C9E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53278-0714-4F63-B0D4-63D4F833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F76BA-C973-48AD-8670-15BDB630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9EF50-F88C-423B-9B4C-2B15F867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96D8C-8CB6-4EA2-A4C8-7BEA3BEE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66728-2ADF-4AE7-A364-736D42A6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4DA3F-8644-4078-ABB2-8CC298E0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5050D-ABFC-45F6-A3C0-B3C8BE9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1A9-4A7E-41DD-97B7-12D72FF9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21EAB-5803-4BA2-8D9D-8E4DB69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39056-5F5A-45D9-8FF7-356A065F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E53B5-DAE3-4AE7-8FD9-D5A2C66A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EE92A-591C-4E7A-BB7A-8BA1B606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3BB6E-95F9-4670-92DB-F0FB8DA4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86787-814B-417A-A177-3D96427E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67D7F-3FEA-4964-ACCD-20B5AF28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F5B4F-0D11-4B8C-A93E-834C635F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55F9F-7057-49C5-938D-6F0388B3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4D969-86C0-4D5E-B76C-F055F6DC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4B0-A216-45B5-B9AA-DEF1FD89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DDDC3-FAC3-4123-950E-E070C617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DBF94-AB96-407C-A8F0-0139944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D5249-9950-471F-BD1C-AE9AB9C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5311A-6182-40A8-9AE7-FAA540DD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000D2-94E6-438C-A24A-7E4D4E9E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51439-D449-4D82-9FBB-970EC03C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7CAD1-832F-4EE7-9B08-E15F1F98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86950-232C-4EA9-8F5F-62B013EC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35F2F-9448-43D3-A86C-728434B4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072E6-4111-4517-88AC-27498FF4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DCE2-E604-4861-A788-0CB510C5A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BBD0-24C9-4D71-884D-CF14D6037A13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3DFD-B40B-4BFE-A014-2A076D497AD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45CB-0D8F-4259-A54C-3339B15E70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4D54-58FC-420E-8EBB-876B2A958AB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0E71-FAF5-4A3B-B58F-58DF3D1E23B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76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68DD-5E1A-4ABB-A824-550E0D0D117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F89E-4A33-448D-96E7-0FE2FB2C2A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F4E0-622D-4E69-95B5-201D10B5EA9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314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9C40-4E5D-435D-B2E2-791B6E3B35CD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5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C0FA-9FDB-4F8C-9FB5-21EEA79F6EA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" Target="slide7.xml"/><Relationship Id="rId7" Type="http://schemas.openxmlformats.org/officeDocument/2006/relationships/image" Target="../media/image14.png"/><Relationship Id="rId8" Type="http://schemas.openxmlformats.org/officeDocument/2006/relationships/slide" Target="slide8.xml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7.xml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slide" Target="slide8.xml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package" Target="../embeddings/oleObject2.docx"/><Relationship Id="rId11" Type="http://schemas.openxmlformats.org/officeDocument/2006/relationships/image" Target="../media/image34.wmf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package" Target="../embeddings/oleObject1.docx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8" descr="owl"/>
          <p:cNvPicPr/>
          <p:nvPr/>
        </p:nvPicPr>
        <p:blipFill>
          <a:blip r:embed="rId1"/>
          <a:stretch/>
        </p:blipFill>
        <p:spPr>
          <a:xfrm>
            <a:off x="2786040" y="2928960"/>
            <a:ext cx="2928960" cy="3151080"/>
          </a:xfrm>
          <a:prstGeom prst="rect">
            <a:avLst/>
          </a:prstGeom>
          <a:ln w="0">
            <a:noFill/>
          </a:ln>
        </p:spPr>
      </p:pic>
      <p:pic>
        <p:nvPicPr>
          <p:cNvPr id="490" name="Прямоугольник 4" descr=""/>
          <p:cNvPicPr/>
          <p:nvPr/>
        </p:nvPicPr>
        <p:blipFill>
          <a:blip r:embed="rId2"/>
          <a:stretch/>
        </p:blipFill>
        <p:spPr>
          <a:xfrm>
            <a:off x="3395520" y="426960"/>
            <a:ext cx="1749600" cy="1193760"/>
          </a:xfrm>
          <a:prstGeom prst="rect">
            <a:avLst/>
          </a:prstGeom>
          <a:ln w="0">
            <a:noFill/>
          </a:ln>
        </p:spPr>
      </p:pic>
      <p:pic>
        <p:nvPicPr>
          <p:cNvPr id="491" name="Прямоугольник 5" descr=""/>
          <p:cNvPicPr/>
          <p:nvPr/>
        </p:nvPicPr>
        <p:blipFill>
          <a:blip r:embed="rId3"/>
          <a:stretch/>
        </p:blipFill>
        <p:spPr>
          <a:xfrm>
            <a:off x="1285920" y="1925640"/>
            <a:ext cx="735804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f07f09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Прямоугольник 5" descr=""/>
          <p:cNvPicPr/>
          <p:nvPr/>
        </p:nvPicPr>
        <p:blipFill>
          <a:blip r:embed="rId1"/>
          <a:stretch/>
        </p:blipFill>
        <p:spPr>
          <a:xfrm>
            <a:off x="-60480" y="-36360"/>
            <a:ext cx="9264960" cy="1566720"/>
          </a:xfrm>
          <a:prstGeom prst="rect">
            <a:avLst/>
          </a:prstGeom>
          <a:ln w="0">
            <a:noFill/>
          </a:ln>
        </p:spPr>
      </p:pic>
      <p:pic>
        <p:nvPicPr>
          <p:cNvPr id="494" name="Прямоугольник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5840" y="1925640"/>
            <a:ext cx="604800" cy="927000"/>
          </a:xfrm>
          <a:prstGeom prst="rect">
            <a:avLst/>
          </a:prstGeom>
          <a:ln w="0">
            <a:noFill/>
          </a:ln>
        </p:spPr>
      </p:pic>
      <p:pic>
        <p:nvPicPr>
          <p:cNvPr id="495" name="Прямоугольник 14" descr=""/>
          <p:cNvPicPr/>
          <p:nvPr/>
        </p:nvPicPr>
        <p:blipFill>
          <a:blip r:embed="rId4"/>
          <a:stretch/>
        </p:blipFill>
        <p:spPr>
          <a:xfrm>
            <a:off x="2498760" y="2000160"/>
            <a:ext cx="2987640" cy="987480"/>
          </a:xfrm>
          <a:prstGeom prst="rect">
            <a:avLst/>
          </a:prstGeom>
          <a:ln w="0">
            <a:noFill/>
          </a:ln>
        </p:spPr>
      </p:pic>
      <p:pic>
        <p:nvPicPr>
          <p:cNvPr id="496" name="Прямоугольник 15" descr=""/>
          <p:cNvPicPr/>
          <p:nvPr/>
        </p:nvPicPr>
        <p:blipFill>
          <a:blip r:embed="rId5"/>
          <a:stretch/>
        </p:blipFill>
        <p:spPr>
          <a:xfrm>
            <a:off x="2457360" y="3144960"/>
            <a:ext cx="2962440" cy="982440"/>
          </a:xfrm>
          <a:prstGeom prst="rect">
            <a:avLst/>
          </a:prstGeom>
          <a:ln w="0">
            <a:noFill/>
          </a:ln>
        </p:spPr>
      </p:pic>
      <p:pic>
        <p:nvPicPr>
          <p:cNvPr id="497" name="Прямоугольник 1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5840" y="3144960"/>
            <a:ext cx="641160" cy="920520"/>
          </a:xfrm>
          <a:prstGeom prst="rect">
            <a:avLst/>
          </a:prstGeom>
          <a:ln w="0">
            <a:noFill/>
          </a:ln>
        </p:spPr>
      </p:pic>
      <p:pic>
        <p:nvPicPr>
          <p:cNvPr id="498" name="Прямоугольник 17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85840" y="4432320"/>
            <a:ext cx="647640" cy="920880"/>
          </a:xfrm>
          <a:prstGeom prst="rect">
            <a:avLst/>
          </a:prstGeom>
          <a:ln w="0">
            <a:noFill/>
          </a:ln>
        </p:spPr>
      </p:pic>
      <p:pic>
        <p:nvPicPr>
          <p:cNvPr id="499" name="Прямоугольник 18" descr=""/>
          <p:cNvPicPr/>
          <p:nvPr/>
        </p:nvPicPr>
        <p:blipFill>
          <a:blip r:embed="rId10"/>
          <a:stretch/>
        </p:blipFill>
        <p:spPr>
          <a:xfrm>
            <a:off x="2523960" y="4359240"/>
            <a:ext cx="3286440" cy="951120"/>
          </a:xfrm>
          <a:prstGeom prst="rect">
            <a:avLst/>
          </a:prstGeom>
          <a:ln w="0">
            <a:noFill/>
          </a:ln>
        </p:spPr>
      </p:pic>
      <p:sp>
        <p:nvSpPr>
          <p:cNvPr id="500" name="Стрелка вправо 19"/>
          <p:cNvSpPr/>
          <p:nvPr/>
        </p:nvSpPr>
        <p:spPr>
          <a:xfrm>
            <a:off x="1500120" y="2214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92d050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трелка вправо 20"/>
          <p:cNvSpPr/>
          <p:nvPr/>
        </p:nvSpPr>
        <p:spPr>
          <a:xfrm>
            <a:off x="1428840" y="3500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трелка вправо 21"/>
          <p:cNvSpPr/>
          <p:nvPr/>
        </p:nvSpPr>
        <p:spPr>
          <a:xfrm>
            <a:off x="1500120" y="46432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92d050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7215120" y="1643040"/>
            <a:ext cx="57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vveden1_2"/>
          <p:cNvPicPr/>
          <p:nvPr/>
        </p:nvPicPr>
        <p:blipFill>
          <a:blip r:embed="rId11"/>
          <a:stretch/>
        </p:blipFill>
        <p:spPr>
          <a:xfrm>
            <a:off x="6357960" y="2571840"/>
            <a:ext cx="2071800" cy="2857320"/>
          </a:xfrm>
          <a:prstGeom prst="rect">
            <a:avLst/>
          </a:prstGeom>
          <a:ln w="0">
            <a:noFill/>
          </a:ln>
        </p:spPr>
      </p:pic>
      <p:sp>
        <p:nvSpPr>
          <p:cNvPr id="505" name="TextBox 7"/>
          <p:cNvSpPr/>
          <p:nvPr/>
        </p:nvSpPr>
        <p:spPr>
          <a:xfrm>
            <a:off x="8286840" y="257184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7"/>
          <p:cNvSpPr/>
          <p:nvPr/>
        </p:nvSpPr>
        <p:spPr>
          <a:xfrm>
            <a:off x="6143760" y="264312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Прямоугольник 7" descr=""/>
          <p:cNvPicPr/>
          <p:nvPr/>
        </p:nvPicPr>
        <p:blipFill>
          <a:blip r:embed="rId1"/>
          <a:stretch/>
        </p:blipFill>
        <p:spPr>
          <a:xfrm>
            <a:off x="-49320" y="-23760"/>
            <a:ext cx="9242640" cy="1444680"/>
          </a:xfrm>
          <a:prstGeom prst="rect">
            <a:avLst/>
          </a:prstGeom>
          <a:ln w="0">
            <a:noFill/>
          </a:ln>
        </p:spPr>
      </p:pic>
      <p:pic>
        <p:nvPicPr>
          <p:cNvPr id="508" name="Прямоугольник 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5840" y="2646360"/>
            <a:ext cx="744480" cy="919080"/>
          </a:xfrm>
          <a:prstGeom prst="rect">
            <a:avLst/>
          </a:prstGeom>
          <a:ln w="0">
            <a:noFill/>
          </a:ln>
        </p:spPr>
      </p:pic>
      <p:grpSp>
        <p:nvGrpSpPr>
          <p:cNvPr id="509" name="Горизонтальный свиток 12"/>
          <p:cNvGrpSpPr/>
          <p:nvPr/>
        </p:nvGrpSpPr>
        <p:grpSpPr>
          <a:xfrm>
            <a:off x="914400" y="2475000"/>
            <a:ext cx="8064360" cy="1279440"/>
            <a:chOff x="914400" y="2475000"/>
            <a:chExt cx="8064360" cy="1279440"/>
          </a:xfrm>
        </p:grpSpPr>
        <p:pic>
          <p:nvPicPr>
            <p:cNvPr id="510" name="Горизонтальный свиток 12" descr=""/>
            <p:cNvPicPr/>
            <p:nvPr/>
          </p:nvPicPr>
          <p:blipFill>
            <a:blip r:embed="rId4"/>
            <a:stretch/>
          </p:blipFill>
          <p:spPr>
            <a:xfrm>
              <a:off x="914400" y="2475000"/>
              <a:ext cx="80643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200240" y="2629080"/>
              <a:ext cx="76644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70c0"/>
                  </a:solidFill>
                  <a:latin typeface="Cambria"/>
                </a:rPr>
                <a:t>Медленный, вареное, сини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Горизонтальный свиток 13"/>
          <p:cNvGrpSpPr/>
          <p:nvPr/>
        </p:nvGrpSpPr>
        <p:grpSpPr>
          <a:xfrm>
            <a:off x="841320" y="3833640"/>
            <a:ext cx="8137440" cy="1274760"/>
            <a:chOff x="841320" y="3833640"/>
            <a:chExt cx="8137440" cy="1274760"/>
          </a:xfrm>
        </p:grpSpPr>
        <p:pic>
          <p:nvPicPr>
            <p:cNvPr id="513" name="Горизонтальный свиток 13" descr=""/>
            <p:cNvPicPr/>
            <p:nvPr/>
          </p:nvPicPr>
          <p:blipFill>
            <a:blip r:embed="rId5"/>
            <a:stretch/>
          </p:blipFill>
          <p:spPr>
            <a:xfrm>
              <a:off x="841320" y="3833640"/>
              <a:ext cx="813744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1128600" y="3986280"/>
              <a:ext cx="77360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70c0"/>
                  </a:solidFill>
                  <a:latin typeface="Cambria"/>
                </a:rPr>
                <a:t>Верность, желтый, белы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Горизонтальный свиток 14"/>
          <p:cNvGrpSpPr/>
          <p:nvPr/>
        </p:nvGrpSpPr>
        <p:grpSpPr>
          <a:xfrm>
            <a:off x="841320" y="4973760"/>
            <a:ext cx="8137440" cy="1207800"/>
            <a:chOff x="841320" y="4973760"/>
            <a:chExt cx="8137440" cy="1207800"/>
          </a:xfrm>
        </p:grpSpPr>
        <p:pic>
          <p:nvPicPr>
            <p:cNvPr id="516" name="Горизонтальный свиток 14" descr=""/>
            <p:cNvPicPr/>
            <p:nvPr/>
          </p:nvPicPr>
          <p:blipFill>
            <a:blip r:embed="rId6"/>
            <a:stretch/>
          </p:blipFill>
          <p:spPr>
            <a:xfrm>
              <a:off x="841320" y="4973760"/>
              <a:ext cx="8137440" cy="12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066680" y="5138640"/>
              <a:ext cx="7794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70c0"/>
                  </a:solidFill>
                  <a:latin typeface="Cambria"/>
                </a:rPr>
                <a:t>Медлительность, верный, белизн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Picture 126" descr="peo-girl[1]"/>
          <p:cNvPicPr/>
          <p:nvPr/>
        </p:nvPicPr>
        <p:blipFill>
          <a:blip r:embed="rId7"/>
          <a:stretch/>
        </p:blipFill>
        <p:spPr>
          <a:xfrm>
            <a:off x="3214800" y="1214280"/>
            <a:ext cx="2163600" cy="1428840"/>
          </a:xfrm>
          <a:prstGeom prst="rect">
            <a:avLst/>
          </a:prstGeom>
          <a:ln w="0">
            <a:noFill/>
          </a:ln>
        </p:spPr>
      </p:pic>
      <p:sp>
        <p:nvSpPr>
          <p:cNvPr id="519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f07f09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Прямоугольник 1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12760" y="3998880"/>
            <a:ext cx="787320" cy="927000"/>
          </a:xfrm>
          <a:prstGeom prst="rect">
            <a:avLst/>
          </a:prstGeom>
          <a:ln w="0">
            <a:noFill/>
          </a:ln>
        </p:spPr>
      </p:pic>
      <p:pic>
        <p:nvPicPr>
          <p:cNvPr id="521" name="Прямоугольник 19" descr=""/>
          <p:cNvPicPr/>
          <p:nvPr/>
        </p:nvPicPr>
        <p:blipFill>
          <a:blip r:embed="rId10"/>
          <a:stretch/>
        </p:blipFill>
        <p:spPr>
          <a:xfrm>
            <a:off x="212760" y="5145120"/>
            <a:ext cx="787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Object 2"/>
          <p:cNvGraphicFramePr/>
          <p:nvPr/>
        </p:nvGraphicFramePr>
        <p:xfrm>
          <a:off x="6643800" y="714240"/>
          <a:ext cx="1571400" cy="15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714240"/>
                    <a:ext cx="1571400" cy="15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Прямоугольник 6" descr=""/>
          <p:cNvPicPr/>
          <p:nvPr/>
        </p:nvPicPr>
        <p:blipFill>
          <a:blip r:embed="rId3"/>
          <a:stretch/>
        </p:blipFill>
        <p:spPr>
          <a:xfrm>
            <a:off x="914400" y="285840"/>
            <a:ext cx="6497640" cy="1493640"/>
          </a:xfrm>
          <a:prstGeom prst="rect">
            <a:avLst/>
          </a:prstGeom>
          <a:ln w="0">
            <a:noFill/>
          </a:ln>
        </p:spPr>
      </p:pic>
      <p:pic>
        <p:nvPicPr>
          <p:cNvPr id="526" name="Прямоугольник 7" descr=""/>
          <p:cNvPicPr/>
          <p:nvPr/>
        </p:nvPicPr>
        <p:blipFill>
          <a:blip r:embed="rId4"/>
          <a:stretch/>
        </p:blipFill>
        <p:spPr>
          <a:xfrm>
            <a:off x="285840" y="1859040"/>
            <a:ext cx="744480" cy="920520"/>
          </a:xfrm>
          <a:prstGeom prst="rect">
            <a:avLst/>
          </a:prstGeom>
          <a:ln w="0">
            <a:noFill/>
          </a:ln>
        </p:spPr>
      </p:pic>
      <p:pic>
        <p:nvPicPr>
          <p:cNvPr id="527" name="Прямоугольник 8" descr=""/>
          <p:cNvPicPr/>
          <p:nvPr/>
        </p:nvPicPr>
        <p:blipFill>
          <a:blip r:embed="rId5"/>
          <a:stretch/>
        </p:blipFill>
        <p:spPr>
          <a:xfrm>
            <a:off x="285840" y="3144960"/>
            <a:ext cx="787320" cy="920520"/>
          </a:xfrm>
          <a:prstGeom prst="rect">
            <a:avLst/>
          </a:prstGeom>
          <a:ln w="0">
            <a:noFill/>
          </a:ln>
        </p:spPr>
      </p:pic>
      <p:pic>
        <p:nvPicPr>
          <p:cNvPr id="528" name="Прямоугольник 9" descr=""/>
          <p:cNvPicPr/>
          <p:nvPr/>
        </p:nvPicPr>
        <p:blipFill>
          <a:blip r:embed="rId6"/>
          <a:stretch/>
        </p:blipFill>
        <p:spPr>
          <a:xfrm>
            <a:off x="212760" y="4572000"/>
            <a:ext cx="787320" cy="920880"/>
          </a:xfrm>
          <a:prstGeom prst="rect">
            <a:avLst/>
          </a:prstGeom>
          <a:ln w="0">
            <a:noFill/>
          </a:ln>
        </p:spPr>
      </p:pic>
      <p:sp>
        <p:nvSpPr>
          <p:cNvPr id="529" name="Стрелка вправо 10"/>
          <p:cNvSpPr/>
          <p:nvPr/>
        </p:nvSpPr>
        <p:spPr>
          <a:xfrm>
            <a:off x="1071720" y="2143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Стрелка вправо 11"/>
          <p:cNvSpPr/>
          <p:nvPr/>
        </p:nvSpPr>
        <p:spPr>
          <a:xfrm>
            <a:off x="1071720" y="3500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Стрелка вправо 12"/>
          <p:cNvSpPr/>
          <p:nvPr/>
        </p:nvSpPr>
        <p:spPr>
          <a:xfrm>
            <a:off x="1071720" y="4929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Прямоугольник 14" descr=""/>
          <p:cNvPicPr/>
          <p:nvPr/>
        </p:nvPicPr>
        <p:blipFill>
          <a:blip r:embed="rId7"/>
          <a:stretch/>
        </p:blipFill>
        <p:spPr>
          <a:xfrm>
            <a:off x="2249640" y="1925640"/>
            <a:ext cx="3157560" cy="939960"/>
          </a:xfrm>
          <a:prstGeom prst="rect">
            <a:avLst/>
          </a:prstGeom>
          <a:ln w="0">
            <a:noFill/>
          </a:ln>
        </p:spPr>
      </p:pic>
      <p:pic>
        <p:nvPicPr>
          <p:cNvPr id="533" name="Прямоугольник 15" descr=""/>
          <p:cNvPicPr/>
          <p:nvPr/>
        </p:nvPicPr>
        <p:blipFill>
          <a:blip r:embed="rId8"/>
          <a:stretch/>
        </p:blipFill>
        <p:spPr>
          <a:xfrm>
            <a:off x="2279520" y="3213000"/>
            <a:ext cx="3488040" cy="925560"/>
          </a:xfrm>
          <a:prstGeom prst="rect">
            <a:avLst/>
          </a:prstGeom>
          <a:ln w="0">
            <a:noFill/>
          </a:ln>
        </p:spPr>
      </p:pic>
      <p:pic>
        <p:nvPicPr>
          <p:cNvPr id="534" name="Прямоугольник 16" descr=""/>
          <p:cNvPicPr/>
          <p:nvPr/>
        </p:nvPicPr>
        <p:blipFill>
          <a:blip r:embed="rId9"/>
          <a:stretch/>
        </p:blipFill>
        <p:spPr>
          <a:xfrm>
            <a:off x="2255760" y="4711680"/>
            <a:ext cx="3138480" cy="95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5" name="Object 5"/>
          <p:cNvGraphicFramePr/>
          <p:nvPr/>
        </p:nvGraphicFramePr>
        <p:xfrm>
          <a:off x="5857920" y="2500200"/>
          <a:ext cx="2238480" cy="27147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36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57920" y="2500200"/>
                    <a:ext cx="22384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Object 2"/>
          <p:cNvGraphicFramePr/>
          <p:nvPr/>
        </p:nvGraphicFramePr>
        <p:xfrm>
          <a:off x="7572240" y="-214200"/>
          <a:ext cx="1571760" cy="202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2240" y="-214200"/>
                    <a:ext cx="157176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9" name="Прямоугольник 5" descr=""/>
          <p:cNvPicPr/>
          <p:nvPr/>
        </p:nvPicPr>
        <p:blipFill>
          <a:blip r:embed="rId3"/>
          <a:stretch/>
        </p:blipFill>
        <p:spPr>
          <a:xfrm>
            <a:off x="0" y="212760"/>
            <a:ext cx="7931160" cy="1536840"/>
          </a:xfrm>
          <a:prstGeom prst="rect">
            <a:avLst/>
          </a:prstGeom>
          <a:ln w="0">
            <a:noFill/>
          </a:ln>
        </p:spPr>
      </p:pic>
      <p:pic>
        <p:nvPicPr>
          <p:cNvPr id="540" name="Прямоугольник 6" descr=""/>
          <p:cNvPicPr/>
          <p:nvPr/>
        </p:nvPicPr>
        <p:blipFill>
          <a:blip r:embed="rId4"/>
          <a:stretch/>
        </p:blipFill>
        <p:spPr>
          <a:xfrm>
            <a:off x="285840" y="1859040"/>
            <a:ext cx="744480" cy="920520"/>
          </a:xfrm>
          <a:prstGeom prst="rect">
            <a:avLst/>
          </a:prstGeom>
          <a:ln w="0">
            <a:noFill/>
          </a:ln>
        </p:spPr>
      </p:pic>
      <p:pic>
        <p:nvPicPr>
          <p:cNvPr id="541" name="Прямоугольник 7" descr=""/>
          <p:cNvPicPr/>
          <p:nvPr/>
        </p:nvPicPr>
        <p:blipFill>
          <a:blip r:embed="rId5"/>
          <a:stretch/>
        </p:blipFill>
        <p:spPr>
          <a:xfrm>
            <a:off x="285840" y="3144960"/>
            <a:ext cx="787320" cy="920520"/>
          </a:xfrm>
          <a:prstGeom prst="rect">
            <a:avLst/>
          </a:prstGeom>
          <a:ln w="0">
            <a:noFill/>
          </a:ln>
        </p:spPr>
      </p:pic>
      <p:pic>
        <p:nvPicPr>
          <p:cNvPr id="542" name="Прямоугольник 8" descr=""/>
          <p:cNvPicPr/>
          <p:nvPr/>
        </p:nvPicPr>
        <p:blipFill>
          <a:blip r:embed="rId6"/>
          <a:stretch/>
        </p:blipFill>
        <p:spPr>
          <a:xfrm>
            <a:off x="212760" y="4572000"/>
            <a:ext cx="787320" cy="920880"/>
          </a:xfrm>
          <a:prstGeom prst="rect">
            <a:avLst/>
          </a:prstGeom>
          <a:ln w="0">
            <a:noFill/>
          </a:ln>
        </p:spPr>
      </p:pic>
      <p:sp>
        <p:nvSpPr>
          <p:cNvPr id="543" name="Стрелка вправо 9"/>
          <p:cNvSpPr/>
          <p:nvPr/>
        </p:nvSpPr>
        <p:spPr>
          <a:xfrm>
            <a:off x="1071720" y="2143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Стрелка вправо 10"/>
          <p:cNvSpPr/>
          <p:nvPr/>
        </p:nvSpPr>
        <p:spPr>
          <a:xfrm>
            <a:off x="1071720" y="3500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Стрелка вправо 11"/>
          <p:cNvSpPr/>
          <p:nvPr/>
        </p:nvSpPr>
        <p:spPr>
          <a:xfrm>
            <a:off x="1071720" y="4929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Прямоугольник 12" descr=""/>
          <p:cNvPicPr/>
          <p:nvPr/>
        </p:nvPicPr>
        <p:blipFill>
          <a:blip r:embed="rId7"/>
          <a:stretch/>
        </p:blipFill>
        <p:spPr>
          <a:xfrm>
            <a:off x="2004840" y="2000160"/>
            <a:ext cx="5980320" cy="822240"/>
          </a:xfrm>
          <a:prstGeom prst="rect">
            <a:avLst/>
          </a:prstGeom>
          <a:ln w="0">
            <a:noFill/>
          </a:ln>
        </p:spPr>
      </p:pic>
      <p:pic>
        <p:nvPicPr>
          <p:cNvPr id="547" name="Прямоугольник 25" descr=""/>
          <p:cNvPicPr/>
          <p:nvPr/>
        </p:nvPicPr>
        <p:blipFill>
          <a:blip r:embed="rId8"/>
          <a:stretch/>
        </p:blipFill>
        <p:spPr>
          <a:xfrm>
            <a:off x="2120760" y="3286080"/>
            <a:ext cx="5572440" cy="822240"/>
          </a:xfrm>
          <a:prstGeom prst="rect">
            <a:avLst/>
          </a:prstGeom>
          <a:ln w="0">
            <a:noFill/>
          </a:ln>
        </p:spPr>
      </p:pic>
      <p:pic>
        <p:nvPicPr>
          <p:cNvPr id="548" name="Прямоугольник 26" descr=""/>
          <p:cNvPicPr/>
          <p:nvPr/>
        </p:nvPicPr>
        <p:blipFill>
          <a:blip r:embed="rId9"/>
          <a:stretch/>
        </p:blipFill>
        <p:spPr>
          <a:xfrm>
            <a:off x="2146320" y="4572000"/>
            <a:ext cx="5418000" cy="822240"/>
          </a:xfrm>
          <a:prstGeom prst="rect">
            <a:avLst/>
          </a:prstGeom>
          <a:ln w="0">
            <a:noFill/>
          </a:ln>
        </p:spPr>
      </p:pic>
      <p:sp>
        <p:nvSpPr>
          <p:cNvPr id="549" name="Управляющая кнопка: далее 27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Прямоугольник 3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1365120"/>
          </a:xfrm>
          <a:prstGeom prst="rect">
            <a:avLst/>
          </a:prstGeom>
          <a:ln w="0">
            <a:noFill/>
          </a:ln>
        </p:spPr>
      </p:pic>
      <p:pic>
        <p:nvPicPr>
          <p:cNvPr id="551" name="Прямоугольник 5" descr=""/>
          <p:cNvPicPr/>
          <p:nvPr/>
        </p:nvPicPr>
        <p:blipFill>
          <a:blip r:embed="rId2"/>
          <a:stretch/>
        </p:blipFill>
        <p:spPr>
          <a:xfrm>
            <a:off x="285840" y="2359080"/>
            <a:ext cx="744480" cy="920520"/>
          </a:xfrm>
          <a:prstGeom prst="rect">
            <a:avLst/>
          </a:prstGeom>
          <a:ln w="0">
            <a:noFill/>
          </a:ln>
        </p:spPr>
      </p:pic>
      <p:pic>
        <p:nvPicPr>
          <p:cNvPr id="552" name="Прямоугольник 6" descr=""/>
          <p:cNvPicPr/>
          <p:nvPr/>
        </p:nvPicPr>
        <p:blipFill>
          <a:blip r:embed="rId3"/>
          <a:stretch/>
        </p:blipFill>
        <p:spPr>
          <a:xfrm>
            <a:off x="285840" y="3645000"/>
            <a:ext cx="787320" cy="920520"/>
          </a:xfrm>
          <a:prstGeom prst="rect">
            <a:avLst/>
          </a:prstGeom>
          <a:ln w="0">
            <a:noFill/>
          </a:ln>
        </p:spPr>
      </p:pic>
      <p:pic>
        <p:nvPicPr>
          <p:cNvPr id="553" name="Прямоугольник 7" descr=""/>
          <p:cNvPicPr/>
          <p:nvPr/>
        </p:nvPicPr>
        <p:blipFill>
          <a:blip r:embed="rId4"/>
          <a:stretch/>
        </p:blipFill>
        <p:spPr>
          <a:xfrm>
            <a:off x="212760" y="5072040"/>
            <a:ext cx="787320" cy="920880"/>
          </a:xfrm>
          <a:prstGeom prst="rect">
            <a:avLst/>
          </a:prstGeom>
          <a:ln w="0">
            <a:noFill/>
          </a:ln>
        </p:spPr>
      </p:pic>
      <p:sp>
        <p:nvSpPr>
          <p:cNvPr id="554" name="Стрелка вправо 8"/>
          <p:cNvSpPr/>
          <p:nvPr/>
        </p:nvSpPr>
        <p:spPr>
          <a:xfrm>
            <a:off x="1071720" y="2643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Стрелка вправо 9"/>
          <p:cNvSpPr/>
          <p:nvPr/>
        </p:nvSpPr>
        <p:spPr>
          <a:xfrm>
            <a:off x="1071720" y="4000680"/>
            <a:ext cx="977760" cy="4838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10"/>
          <p:cNvSpPr/>
          <p:nvPr/>
        </p:nvSpPr>
        <p:spPr>
          <a:xfrm>
            <a:off x="1071720" y="54291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Прямоугольник 11" descr=""/>
          <p:cNvPicPr/>
          <p:nvPr/>
        </p:nvPicPr>
        <p:blipFill>
          <a:blip r:embed="rId5"/>
          <a:stretch/>
        </p:blipFill>
        <p:spPr>
          <a:xfrm>
            <a:off x="2120760" y="2212920"/>
            <a:ext cx="2756160" cy="1231920"/>
          </a:xfrm>
          <a:prstGeom prst="rect">
            <a:avLst/>
          </a:prstGeom>
          <a:ln w="0">
            <a:noFill/>
          </a:ln>
        </p:spPr>
      </p:pic>
      <p:pic>
        <p:nvPicPr>
          <p:cNvPr id="558" name="Прямоугольник 12" descr=""/>
          <p:cNvPicPr/>
          <p:nvPr/>
        </p:nvPicPr>
        <p:blipFill>
          <a:blip r:embed="rId6"/>
          <a:stretch/>
        </p:blipFill>
        <p:spPr>
          <a:xfrm>
            <a:off x="2286000" y="3571920"/>
            <a:ext cx="3255840" cy="1378080"/>
          </a:xfrm>
          <a:prstGeom prst="rect">
            <a:avLst/>
          </a:prstGeom>
          <a:ln w="0">
            <a:noFill/>
          </a:ln>
        </p:spPr>
      </p:pic>
      <p:pic>
        <p:nvPicPr>
          <p:cNvPr id="559" name="Прямоугольник 13" descr=""/>
          <p:cNvPicPr/>
          <p:nvPr/>
        </p:nvPicPr>
        <p:blipFill>
          <a:blip r:embed="rId7"/>
          <a:stretch/>
        </p:blipFill>
        <p:spPr>
          <a:xfrm>
            <a:off x="2408400" y="4998960"/>
            <a:ext cx="3644640" cy="1230480"/>
          </a:xfrm>
          <a:prstGeom prst="rect">
            <a:avLst/>
          </a:prstGeom>
          <a:ln w="0">
            <a:noFill/>
          </a:ln>
        </p:spPr>
      </p:pic>
      <p:sp>
        <p:nvSpPr>
          <p:cNvPr id="560" name="Управляющая кнопка: в конец 14">
            <a:hlinkClick r:id="" action="ppaction://hlinkshowjump?jump=lastslide"/>
          </p:cNvPr>
          <p:cNvSpPr/>
          <p:nvPr/>
        </p:nvSpPr>
        <p:spPr>
          <a:xfrm>
            <a:off x="8215200" y="6286680"/>
            <a:ext cx="928800" cy="571320"/>
          </a:xfrm>
          <a:custGeom>
            <a:avLst/>
            <a:gdLst>
              <a:gd name="textAreaLeft" fmla="*/ 36720 w 928800"/>
              <a:gd name="textAreaRight" fmla="*/ 892080 w 9288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5107" h="21600">
                <a:moveTo>
                  <a:pt x="0" y="0"/>
                </a:moveTo>
                <a:lnTo>
                  <a:pt x="35107" y="0"/>
                </a:lnTo>
                <a:lnTo>
                  <a:pt x="35107" y="21600"/>
                </a:lnTo>
                <a:lnTo>
                  <a:pt x="0" y="21600"/>
                </a:lnTo>
                <a:close/>
              </a:path>
              <a:path fill="lightenLess" w="35107" h="21600">
                <a:moveTo>
                  <a:pt x="0" y="0"/>
                </a:moveTo>
                <a:lnTo>
                  <a:pt x="35107" y="0"/>
                </a:lnTo>
                <a:lnTo>
                  <a:pt x="33707" y="1400"/>
                </a:lnTo>
                <a:lnTo>
                  <a:pt x="1400" y="1400"/>
                </a:lnTo>
                <a:close/>
              </a:path>
              <a:path fill="darken" w="35107" h="21600">
                <a:moveTo>
                  <a:pt x="35107" y="0"/>
                </a:moveTo>
                <a:lnTo>
                  <a:pt x="35107" y="21600"/>
                </a:lnTo>
                <a:lnTo>
                  <a:pt x="33707" y="20200"/>
                </a:lnTo>
                <a:lnTo>
                  <a:pt x="33707" y="1400"/>
                </a:lnTo>
                <a:close/>
              </a:path>
              <a:path fill="darkenLess" w="35107" h="21600">
                <a:moveTo>
                  <a:pt x="35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7" y="20200"/>
                </a:lnTo>
                <a:close/>
              </a:path>
              <a:path fill="lighten" w="35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7" h="21600">
                <a:moveTo>
                  <a:pt x="21052" y="10800"/>
                </a:moveTo>
                <a:lnTo>
                  <a:pt x="10547" y="17806"/>
                </a:lnTo>
                <a:lnTo>
                  <a:pt x="10547" y="3794"/>
                </a:lnTo>
                <a:close/>
              </a:path>
              <a:path fill="darken" w="35107" h="21600">
                <a:moveTo>
                  <a:pt x="22897" y="3794"/>
                </a:moveTo>
                <a:lnTo>
                  <a:pt x="22897" y="17806"/>
                </a:lnTo>
                <a:lnTo>
                  <a:pt x="24560" y="17806"/>
                </a:lnTo>
                <a:lnTo>
                  <a:pt x="24560" y="3794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Object 3"/>
          <p:cNvGraphicFramePr/>
          <p:nvPr/>
        </p:nvGraphicFramePr>
        <p:xfrm>
          <a:off x="5643720" y="1071720"/>
          <a:ext cx="2322360" cy="24285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43720" y="1071720"/>
                    <a:ext cx="2322360" cy="24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28" descr="MAGIC"/>
          <p:cNvPicPr/>
          <p:nvPr/>
        </p:nvPicPr>
        <p:blipFill>
          <a:blip r:embed="rId1"/>
          <a:stretch/>
        </p:blipFill>
        <p:spPr>
          <a:xfrm>
            <a:off x="2286000" y="2143080"/>
            <a:ext cx="5832360" cy="3729240"/>
          </a:xfrm>
          <a:prstGeom prst="rect">
            <a:avLst/>
          </a:prstGeom>
          <a:ln w="0">
            <a:noFill/>
          </a:ln>
        </p:spPr>
      </p:pic>
      <p:sp>
        <p:nvSpPr>
          <p:cNvPr id="564" name="WordArt 129"/>
          <p:cNvSpPr txBox="1"/>
          <p:nvPr/>
        </p:nvSpPr>
        <p:spPr>
          <a:xfrm>
            <a:off x="4572000" y="3929040"/>
            <a:ext cx="2857680" cy="6508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65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8101080" y="6286680"/>
            <a:ext cx="1042920" cy="571320"/>
          </a:xfrm>
          <a:custGeom>
            <a:avLst/>
            <a:gdLst>
              <a:gd name="textAreaLeft" fmla="*/ 36720 w 1042920"/>
              <a:gd name="textAreaRight" fmla="*/ 1006200 w 10429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9419" h="21600">
                <a:moveTo>
                  <a:pt x="0" y="0"/>
                </a:moveTo>
                <a:lnTo>
                  <a:pt x="39419" y="0"/>
                </a:lnTo>
                <a:lnTo>
                  <a:pt x="39419" y="21600"/>
                </a:lnTo>
                <a:lnTo>
                  <a:pt x="0" y="21600"/>
                </a:lnTo>
                <a:close/>
              </a:path>
              <a:path fill="lightenLess" w="39419" h="21600">
                <a:moveTo>
                  <a:pt x="0" y="0"/>
                </a:moveTo>
                <a:lnTo>
                  <a:pt x="39419" y="0"/>
                </a:lnTo>
                <a:lnTo>
                  <a:pt x="38019" y="1400"/>
                </a:lnTo>
                <a:lnTo>
                  <a:pt x="1400" y="1400"/>
                </a:lnTo>
                <a:close/>
              </a:path>
              <a:path fill="darken" w="39419" h="21600">
                <a:moveTo>
                  <a:pt x="39419" y="0"/>
                </a:moveTo>
                <a:lnTo>
                  <a:pt x="39419" y="21600"/>
                </a:lnTo>
                <a:lnTo>
                  <a:pt x="38019" y="20200"/>
                </a:lnTo>
                <a:lnTo>
                  <a:pt x="38019" y="1400"/>
                </a:lnTo>
                <a:close/>
              </a:path>
              <a:path fill="darkenLess" w="39419" h="21600">
                <a:moveTo>
                  <a:pt x="39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19" y="20200"/>
                </a:lnTo>
                <a:close/>
              </a:path>
              <a:path fill="lighten" w="39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19" h="21600">
                <a:moveTo>
                  <a:pt x="12703" y="7493"/>
                </a:moveTo>
                <a:lnTo>
                  <a:pt x="16210" y="7493"/>
                </a:lnTo>
                <a:lnTo>
                  <a:pt x="16210" y="12828"/>
                </a:lnTo>
                <a:cubicBezTo>
                  <a:pt x="16210" y="13751"/>
                  <a:pt x="17011" y="14482"/>
                  <a:pt x="18047" y="14482"/>
                </a:cubicBezTo>
                <a:lnTo>
                  <a:pt x="19709" y="14482"/>
                </a:lnTo>
                <a:cubicBezTo>
                  <a:pt x="20745" y="14482"/>
                  <a:pt x="21546" y="13751"/>
                  <a:pt x="21546" y="12828"/>
                </a:cubicBezTo>
                <a:lnTo>
                  <a:pt x="21546" y="7493"/>
                </a:lnTo>
                <a:lnTo>
                  <a:pt x="19709" y="7493"/>
                </a:lnTo>
                <a:lnTo>
                  <a:pt x="23217" y="3985"/>
                </a:lnTo>
                <a:lnTo>
                  <a:pt x="26890" y="7493"/>
                </a:lnTo>
                <a:lnTo>
                  <a:pt x="25053" y="7493"/>
                </a:lnTo>
                <a:lnTo>
                  <a:pt x="25053" y="12828"/>
                </a:lnTo>
                <a:cubicBezTo>
                  <a:pt x="25053" y="15596"/>
                  <a:pt x="22477" y="18155"/>
                  <a:pt x="19709" y="18155"/>
                </a:cubicBezTo>
                <a:lnTo>
                  <a:pt x="18047" y="18155"/>
                </a:lnTo>
                <a:cubicBezTo>
                  <a:pt x="15279" y="18155"/>
                  <a:pt x="12703" y="15596"/>
                  <a:pt x="12703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113"/>
          <p:cNvGrpSpPr/>
          <p:nvPr/>
        </p:nvGrpSpPr>
        <p:grpSpPr>
          <a:xfrm>
            <a:off x="3071880" y="1214280"/>
            <a:ext cx="3499560" cy="4428720"/>
            <a:chOff x="3071880" y="1214280"/>
            <a:chExt cx="3499560" cy="4428720"/>
          </a:xfrm>
        </p:grpSpPr>
        <p:pic>
          <p:nvPicPr>
            <p:cNvPr id="567" name="Picture 111" descr="professor4"/>
            <p:cNvPicPr/>
            <p:nvPr/>
          </p:nvPicPr>
          <p:blipFill>
            <a:blip r:embed="rId1"/>
            <a:stretch/>
          </p:blipFill>
          <p:spPr>
            <a:xfrm>
              <a:off x="3071880" y="1820160"/>
              <a:ext cx="331668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WordArt 112"/>
            <p:cNvSpPr txBox="1"/>
            <p:nvPr/>
          </p:nvSpPr>
          <p:spPr>
            <a:xfrm>
              <a:off x="3387600" y="1214280"/>
              <a:ext cx="3183840" cy="819720"/>
            </a:xfrm>
            <a:prstGeom prst="rect">
              <a:avLst/>
            </a:prstGeom>
          </p:spPr>
          <p:txBody>
            <a:bodyPr wrap="none" fromWordArt="1" lIns="90000" rIns="90000" tIns="46800" bIns="46800" anchor="t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69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8101080" y="6215040"/>
            <a:ext cx="1042920" cy="642960"/>
          </a:xfrm>
          <a:custGeom>
            <a:avLst/>
            <a:gdLst>
              <a:gd name="textAreaLeft" fmla="*/ 41400 w 1042920"/>
              <a:gd name="textAreaRight" fmla="*/ 1001520 w 1042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0508" y="7493"/>
                </a:moveTo>
                <a:lnTo>
                  <a:pt x="14016" y="7493"/>
                </a:lnTo>
                <a:lnTo>
                  <a:pt x="14016" y="12828"/>
                </a:lnTo>
                <a:cubicBezTo>
                  <a:pt x="14016" y="13751"/>
                  <a:pt x="14816" y="14482"/>
                  <a:pt x="15852" y="14482"/>
                </a:cubicBezTo>
                <a:lnTo>
                  <a:pt x="17514" y="14482"/>
                </a:lnTo>
                <a:cubicBezTo>
                  <a:pt x="18550" y="14482"/>
                  <a:pt x="19351" y="13751"/>
                  <a:pt x="19351" y="12828"/>
                </a:cubicBezTo>
                <a:lnTo>
                  <a:pt x="19351" y="7493"/>
                </a:lnTo>
                <a:lnTo>
                  <a:pt x="17514" y="7493"/>
                </a:lnTo>
                <a:lnTo>
                  <a:pt x="21022" y="3985"/>
                </a:lnTo>
                <a:lnTo>
                  <a:pt x="24695" y="7493"/>
                </a:lnTo>
                <a:lnTo>
                  <a:pt x="22859" y="7493"/>
                </a:lnTo>
                <a:lnTo>
                  <a:pt x="22859" y="12828"/>
                </a:lnTo>
                <a:cubicBezTo>
                  <a:pt x="22859" y="15596"/>
                  <a:pt x="20282" y="18155"/>
                  <a:pt x="17514" y="18155"/>
                </a:cubicBezTo>
                <a:lnTo>
                  <a:pt x="15852" y="18155"/>
                </a:lnTo>
                <a:cubicBezTo>
                  <a:pt x="13084" y="18155"/>
                  <a:pt x="10508" y="15596"/>
                  <a:pt x="10508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Прямоугольник 4" descr=""/>
          <p:cNvPicPr/>
          <p:nvPr/>
        </p:nvPicPr>
        <p:blipFill>
          <a:blip r:embed="rId1"/>
          <a:stretch/>
        </p:blipFill>
        <p:spPr>
          <a:xfrm>
            <a:off x="2425680" y="1359000"/>
            <a:ext cx="3614760" cy="199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3"/>
          <p:cNvGraphicFramePr/>
          <p:nvPr/>
        </p:nvGraphicFramePr>
        <p:xfrm>
          <a:off x="3143160" y="3214800"/>
          <a:ext cx="2214720" cy="248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3160" y="3214800"/>
                    <a:ext cx="221472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TextBox 6"/>
          <p:cNvSpPr/>
          <p:nvPr/>
        </p:nvSpPr>
        <p:spPr>
          <a:xfrm>
            <a:off x="5442120" y="5715000"/>
            <a:ext cx="35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БОУ «Комсомольская  СОШ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: Киреева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3:56:51Z</dcterms:created>
  <dc:creator>Киреев Дмитрий</dc:creator>
  <dc:description/>
  <dc:language>en-US</dc:language>
  <cp:lastModifiedBy>Пользователь Windows</cp:lastModifiedBy>
  <dcterms:modified xsi:type="dcterms:W3CDTF">2022-06-19T19:01:25Z</dcterms:modified>
  <cp:revision>13</cp:revision>
  <dc:subject/>
  <dc:title>Слайд 1</dc:title>
</cp:coreProperties>
</file>